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074-116A-4DF0-9411-D8E3B32C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9CC-36F3-49D5-9F3B-AF2DC772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23D-FAEF-48A2-A0A5-D148BD42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4FB-2AF0-4004-9CC5-F5D86962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2D5-EFC5-45AD-B14A-B3CA704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C71-FD3F-40BF-8A34-9240EE26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EE1-E557-40E3-A8FA-2DC83E4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D9-0652-4EB8-818D-3D23896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3FA-99D8-43EE-A6BD-A7C6F837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BBF-F6B4-4B76-BE90-20279A0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8C3-3A86-4AA5-8DD2-3550BE8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427-01B5-4856-B3D5-EC08E0B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069-ABA2-40E2-9177-21ED0993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the theme of World War 2 casualties in the poems: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asualties Were Small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 A Beach in France”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you need a thesis, evidence, as well as strong grammar and good sp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0:42:37Z</dcterms:created>
  <dc:creator>nmt</dc:creator>
  <dc:description/>
  <dc:language>en-US</dc:language>
  <cp:lastModifiedBy>nmt</cp:lastModifiedBy>
  <dcterms:modified xsi:type="dcterms:W3CDTF">2012-03-23T00:44:33Z</dcterms:modified>
  <cp:revision>1</cp:revision>
  <dc:subject/>
  <dc:title>Homework</dc:title>
</cp:coreProperties>
</file>